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65C9-2215-44CB-9328-6AAE34DB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0287-7E6B-4786-BF09-DC48ED3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2DAD-D8DA-4FAA-9DE0-C1BFC058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D36F-1615-4982-B556-44576C9F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7A0-ACD4-40B0-A9F2-CFBBAA33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C6F-36D4-4EEB-AF06-6D7C5DF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D15-DF9A-4E6F-B896-2DBA7AF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C88-37FB-41FA-A819-6CC426E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F82-7A04-4279-8D20-F7CEA669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D2F-D6D8-4DD8-80F2-E04E05AF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A781-E957-403B-B5F9-145FC5D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DDED-D98F-4365-92F1-051F8E29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4839-372B-4426-AFBE-06EE1B2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8875-7E4F-407D-AD7F-748E9BF6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B7E8-052B-4D1C-9EB9-BA5BBA6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F3E3-E84C-46C4-9AB1-79BD9CF8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94C9-FE31-41D7-A5B5-5C8FE182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A2FA-239E-4BB2-9526-7677861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D56D-C732-462E-9812-06EEBEB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178B-BBD0-48A7-BB28-FB92B5F4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3968-1867-46AD-8041-2A882928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126F-C25B-4F5B-A3D4-753FE7D2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79DA-C681-44F9-8C70-2398968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2E66-9AFC-4825-ACE4-4BB5408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0CE-C5AD-4DC5-A8B9-0456D2E623D8}" type="slidenum"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2732-AA76-4F76-BB41-07738CAC31D8}" type="slidenum"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209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“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AV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Manager”</a:t>
            </a:r>
            <a:br>
              <a:rPr sz="4800"/>
            </a:b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Multimedia</a:t>
            </a:r>
            <a:r>
              <a:rPr b="1" lang="en-US" sz="4800" spc="-1" strike="noStrike">
                <a:solidFill>
                  <a:srgbClr val="ebf25a"/>
                </a:solidFill>
                <a:latin typeface="Times New Roman"/>
                <a:ea typeface="新細明體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Times New Roman"/>
                <a:ea typeface="新細明體"/>
              </a:rPr>
              <a:t>Display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Content</a:t>
            </a:r>
            <a:r>
              <a:rPr b="1" lang="en-US" sz="4800" spc="-1" strike="noStrike">
                <a:solidFill>
                  <a:srgbClr val="ebf25a"/>
                </a:solidFill>
                <a:latin typeface="Times New Roman"/>
                <a:ea typeface="新細明體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Management</a:t>
            </a:r>
            <a:r>
              <a:rPr b="1" lang="en-US" sz="4800" spc="-1" strike="noStrike">
                <a:solidFill>
                  <a:srgbClr val="ebf25a"/>
                </a:solidFill>
                <a:latin typeface="Times New Roman"/>
                <a:ea typeface="新細明體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software syste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796000" y="6237000"/>
            <a:ext cx="334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ftwar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esig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by Viscom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00"/>
                </a:solidFill>
                <a:latin typeface="Rockwell Extra Bold"/>
                <a:ea typeface="新細明體"/>
              </a:rPr>
              <a:t>Supporting format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2133720"/>
            <a:ext cx="3963960" cy="3651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Vide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WMV (MS streaming form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ASF (MS streaming form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MPEG-1 (VCD, VC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MPEG-2 (DV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M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A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QuickTime (version 2 and lo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  <a:ea typeface="新細明體"/>
              </a:rPr>
              <a:t>Indeo Video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2133720"/>
            <a:ext cx="2736720" cy="36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Im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  <a:ea typeface="新細明體"/>
              </a:rPr>
              <a:t>Animation 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  <a:ea typeface="新細明體"/>
              </a:rPr>
              <a:t>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  <a:ea typeface="新細明體"/>
              </a:rPr>
              <a:t>B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  <a:ea typeface="新細明體"/>
              </a:rPr>
              <a:t>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Rockwell Extra Bold"/>
                <a:ea typeface="新細明體"/>
              </a:rPr>
              <a:t>System requirem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63640" y="2133720"/>
            <a:ext cx="6553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Intel Pentium 4 or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Minimum 512MB 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VGA Display card 32MB RAM on bo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Windows 2000/X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Internet Explorer 6.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Direct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PowerPoint Viewer (for View PowerPoi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TV capture card (for TV chann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DVD display card (for DVD vide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10/100 LAN card, Internet</a:t>
            </a:r>
            <a:r>
              <a:rPr b="0" lang="en-US" sz="2000" spc="-1" strike="noStrike">
                <a:solidFill>
                  <a:srgbClr val="66ff66"/>
                </a:solidFill>
                <a:latin typeface="Tahoma"/>
                <a:ea typeface="新細明體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新細明體"/>
              </a:rPr>
              <a:t>Benefits of AV</a:t>
            </a:r>
            <a:r>
              <a:rPr b="1" lang="en-US" sz="4200" spc="-1" strike="noStrike">
                <a:solidFill>
                  <a:srgbClr val="ffff00"/>
                </a:solidFill>
                <a:latin typeface="Tahoma"/>
                <a:ea typeface="新細明體"/>
              </a:rPr>
              <a:t> </a:t>
            </a:r>
            <a:r>
              <a:rPr b="1" lang="en-US" sz="4200" spc="-1" strike="noStrike">
                <a:solidFill>
                  <a:srgbClr val="ff6600"/>
                </a:solidFill>
                <a:latin typeface="Tahoma"/>
                <a:ea typeface="新細明體"/>
              </a:rPr>
              <a:t>Manager</a:t>
            </a:r>
            <a:r>
              <a:rPr b="0" lang="en-US" sz="4200" spc="-1" strike="noStrike">
                <a:solidFill>
                  <a:srgbClr val="ff6600"/>
                </a:solidFill>
                <a:latin typeface="Tahoma"/>
                <a:ea typeface="新細明體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360" y="2852640"/>
            <a:ext cx="6624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  <a:ea typeface="新細明體"/>
              </a:rPr>
              <a:t>To generate more revenues from selling more advertising sp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新細明體"/>
              </a:rPr>
              <a:t>To efficiently and effectively manage the advertising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新細明體"/>
              </a:rPr>
              <a:t>Simple control from a P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6769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ff00"/>
                </a:solidFill>
                <a:latin typeface="Times New Roman"/>
                <a:ea typeface="新細明體"/>
              </a:rPr>
              <a:t>“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新細明體"/>
              </a:rPr>
              <a:t>AV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Manager”</a:t>
            </a:r>
            <a:r>
              <a:rPr b="0" lang="en-US" sz="3600" spc="-1" strike="noStrike">
                <a:solidFill>
                  <a:srgbClr val="ff6600"/>
                </a:solidFill>
                <a:latin typeface="Tahoma"/>
                <a:ea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ahoma"/>
                <a:ea typeface="新細明體"/>
              </a:rPr>
              <a:t>operate multiple display units remotely across a LAN, WAN or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新細明體"/>
              </a:rPr>
              <a:t>control multiple display units located in different parts of the building or across the city from your desktop P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  <a:ea typeface="新細明體"/>
              </a:rPr>
              <a:t>is the right solution for you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4564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  <a:ea typeface="新細明體"/>
              </a:rPr>
              <a:t>Support various types of</a:t>
            </a:r>
            <a:br>
              <a:rPr sz="3800"/>
            </a:br>
            <a:r>
              <a:rPr b="0" lang="en-US" sz="3800" spc="-1" strike="noStrike">
                <a:solidFill>
                  <a:srgbClr val="ff00ff"/>
                </a:solidFill>
                <a:latin typeface="Tahoma"/>
                <a:ea typeface="新細明體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Tahoma"/>
                <a:ea typeface="新細明體"/>
              </a:rPr>
              <a:t>contents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  <a:ea typeface="新細明體"/>
              </a:rPr>
              <a:t> </a:t>
            </a:r>
            <a:r>
              <a:rPr b="0" lang="en-US" sz="3800" spc="-1" strike="noStrike">
                <a:solidFill>
                  <a:srgbClr val="ff00ff"/>
                </a:solidFill>
                <a:latin typeface="Tahoma"/>
                <a:ea typeface="新細明體"/>
              </a:rPr>
              <a:t>&amp;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  <a:ea typeface="新細明體"/>
              </a:rPr>
              <a:t> display units</a:t>
            </a:r>
            <a:r>
              <a:rPr b="0" lang="en-US" sz="3800" spc="-1" strike="noStrike">
                <a:solidFill>
                  <a:srgbClr val="ff00ff"/>
                </a:solidFill>
                <a:latin typeface="Tahoma"/>
                <a:ea typeface="新細明體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908000" y="1989000"/>
            <a:ext cx="2160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V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VCD, D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Cable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Web c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CC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On-line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  <a:ea typeface="新細明體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284640"/>
            <a:ext cx="865080" cy="576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565360"/>
            <a:ext cx="2303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Video 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Plasma T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LED 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LCD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VGA mon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新細明體"/>
              </a:rPr>
              <a:t>VGA proj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  <a:ea typeface="新細明體"/>
              </a:rPr>
              <a:t>Who benefit from AV</a:t>
            </a:r>
            <a:r>
              <a:rPr b="1" lang="en-US" sz="4200" spc="-1" strike="noStrike">
                <a:solidFill>
                  <a:srgbClr val="ffff00"/>
                </a:solidFill>
                <a:latin typeface="Tahoma"/>
                <a:ea typeface="新細明體"/>
              </a:rPr>
              <a:t> </a:t>
            </a:r>
            <a:r>
              <a:rPr b="1" lang="en-US" sz="4200" spc="-1" strike="noStrike">
                <a:solidFill>
                  <a:srgbClr val="ff6600"/>
                </a:solidFill>
                <a:latin typeface="Tahoma"/>
                <a:ea typeface="新細明體"/>
              </a:rPr>
              <a:t>Manager</a:t>
            </a:r>
            <a:r>
              <a:rPr b="0" lang="en-US" sz="4200" spc="-1" strike="noStrike">
                <a:solidFill>
                  <a:srgbClr val="ff6600"/>
                </a:solidFill>
                <a:latin typeface="Tahoma"/>
                <a:ea typeface="新細明體"/>
              </a:rPr>
              <a:t> </a:t>
            </a:r>
            <a:r>
              <a:rPr b="0" lang="en-US" sz="4200" spc="-1" strike="noStrike">
                <a:solidFill>
                  <a:srgbClr val="ebf25a"/>
                </a:solidFill>
                <a:latin typeface="Tahoma"/>
                <a:ea typeface="新細明體"/>
              </a:rPr>
              <a:t>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56000" y="1699920"/>
            <a:ext cx="424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Department s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Retail sh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Club hou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Transpor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Bar and restau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Banks and security fi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Cinemas and showc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Schools and univers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新細明體"/>
              </a:rPr>
              <a:t>Airports and train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Tahoma"/>
                <a:ea typeface="新細明體"/>
              </a:rPr>
              <a:t>Simple conne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158400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68360" y="479736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796000" y="4221000"/>
            <a:ext cx="1584360" cy="1151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2268360" y="3573360"/>
            <a:ext cx="13669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71280" y="3645000"/>
            <a:ext cx="100836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4149720"/>
            <a:ext cx="71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005360"/>
            <a:ext cx="863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3573360"/>
            <a:ext cx="1079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63700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ahoma"/>
                <a:ea typeface="新細明體"/>
              </a:rPr>
              <a:t>Computers connecting directly to multiple display uni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33"/>
                </a:solidFill>
                <a:latin typeface="Tahoma"/>
                <a:ea typeface="新細明體"/>
              </a:rPr>
              <a:t>Expandable networ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1621080" cy="165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1224000" cy="88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659640" y="5229360"/>
            <a:ext cx="1224000" cy="888840"/>
          </a:xfrm>
          <a:prstGeom prst="rect">
            <a:avLst/>
          </a:prstGeom>
          <a:ln w="0">
            <a:noFill/>
          </a:ln>
        </p:spPr>
      </p:pic>
      <p:sp>
        <p:nvSpPr>
          <p:cNvPr id="156" name="Cloud"/>
          <p:cNvSpPr/>
          <p:nvPr/>
        </p:nvSpPr>
        <p:spPr>
          <a:xfrm>
            <a:off x="2556000" y="1844640"/>
            <a:ext cx="2879640" cy="1928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ower"/>
          <p:cNvSpPr/>
          <p:nvPr/>
        </p:nvSpPr>
        <p:spPr>
          <a:xfrm>
            <a:off x="5508720" y="3789360"/>
            <a:ext cx="718920" cy="1079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92720" y="2781360"/>
            <a:ext cx="57636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3573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4869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3429000"/>
            <a:ext cx="7192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3645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2349360"/>
            <a:ext cx="11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ahoma"/>
                <a:ea typeface="新細明體"/>
              </a:rPr>
              <a:t>AV Manager control unit on your 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27664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  <a:ea typeface="新細明體"/>
              </a:rPr>
              <a:t>Network or Internet connecting to hundreds of displays and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4221000"/>
            <a:ext cx="21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Tahoma"/>
                <a:ea typeface="新細明體"/>
              </a:rPr>
              <a:t>AV Scheduler( PCs) connecting to multiple display un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1296720" cy="942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1223640" cy="890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7020000" y="4292640"/>
            <a:ext cx="1224000" cy="88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4067280" y="4797360"/>
            <a:ext cx="1224000" cy="88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5364000" y="5229360"/>
            <a:ext cx="1224000" cy="888840"/>
          </a:xfrm>
          <a:prstGeom prst="rect">
            <a:avLst/>
          </a:prstGeom>
          <a:ln w="0">
            <a:noFill/>
          </a:ln>
        </p:spPr>
      </p:pic>
      <p:sp>
        <p:nvSpPr>
          <p:cNvPr id="171" name="tower"/>
          <p:cNvSpPr/>
          <p:nvPr/>
        </p:nvSpPr>
        <p:spPr>
          <a:xfrm>
            <a:off x="1835280" y="3789360"/>
            <a:ext cx="718920" cy="1079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755640" y="2708280"/>
            <a:ext cx="1368360" cy="993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19280" y="4221000"/>
            <a:ext cx="21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47640" y="4868640"/>
            <a:ext cx="28764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869000"/>
            <a:ext cx="730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92360" y="4724280"/>
            <a:ext cx="2890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941720"/>
            <a:ext cx="43164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4653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ower"/>
          <p:cNvSpPr/>
          <p:nvPr/>
        </p:nvSpPr>
        <p:spPr>
          <a:xfrm>
            <a:off x="6156360" y="3933720"/>
            <a:ext cx="719280" cy="1079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Tahoma"/>
                <a:ea typeface="新細明體"/>
              </a:rPr>
              <a:t>Simple content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1916280"/>
            <a:ext cx="5472000" cy="34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2060640"/>
            <a:ext cx="3313080" cy="1512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新細明體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3716280"/>
            <a:ext cx="3024360" cy="8650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  <a:ea typeface="新細明體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2060640"/>
            <a:ext cx="1800360" cy="151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新細明體"/>
              </a:rPr>
              <a:t>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4724280"/>
            <a:ext cx="51847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新細明體"/>
              </a:rPr>
              <a:t>Scrolling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3716280"/>
            <a:ext cx="2089080" cy="865080"/>
          </a:xfrm>
          <a:prstGeom prst="rect">
            <a:avLst/>
          </a:pr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000"/>
                </a:solidFill>
                <a:latin typeface="Tahoma"/>
                <a:ea typeface="新細明體"/>
              </a:rPr>
              <a:t>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429000"/>
            <a:ext cx="12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Define screen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210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Define different 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335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Define play- list sequence &amp; sche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4922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Define up to 12 z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55897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bf25a"/>
                </a:solidFill>
                <a:latin typeface="Tahoma"/>
                <a:ea typeface="新細明體"/>
              </a:rPr>
              <a:t>“</a:t>
            </a:r>
            <a:r>
              <a:rPr b="1" lang="en-US" sz="1400" spc="-1" strike="noStrike">
                <a:solidFill>
                  <a:srgbClr val="ebf25a"/>
                </a:solidFill>
                <a:latin typeface="Tahoma"/>
                <a:ea typeface="新細明體"/>
              </a:rPr>
              <a:t>It’s simple, fun and easy to use!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08640"/>
            <a:ext cx="16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Support multiple language text dis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4360" y="443700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新細明體"/>
              </a:rPr>
              <a:t>Graphic &amp; image eff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2852640"/>
            <a:ext cx="108108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新細明體"/>
              </a:rPr>
              <a:t>Mov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Rockwell Extra Bold"/>
                <a:ea typeface="新細明體"/>
              </a:rPr>
              <a:t>General feat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505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Content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Content grouping &amp; sequenc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Graphics &amp; text 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Screen layout de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Display units regis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Play-list sequencing &amp; schedu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Current event t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Event lo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新細明體"/>
              </a:rPr>
              <a:t>Time synchronization for all P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09:52:17Z</dcterms:created>
  <dc:creator>Viscom Software</dc:creator>
  <dc:description/>
  <dc:language>en-US</dc:language>
  <cp:lastModifiedBy>Cat Leung</cp:lastModifiedBy>
  <dcterms:modified xsi:type="dcterms:W3CDTF">2003-05-16T09:55:13Z</dcterms:modified>
  <cp:revision>115</cp:revision>
  <dc:subject/>
  <dc:title>AV Manager introduction</dc:title>
</cp:coreProperties>
</file>